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5BA-594E-40E8-815A-605D9C6B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DEA-AEAC-412F-883F-B387ED08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342-6EA8-4998-BDDC-220254DF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F4F-FC20-4556-9843-37B438C4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890-119E-4372-9351-60C392DB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C22-8442-4EBA-944B-2D2C4FAE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D68-9B02-4CF6-AED4-3496A79F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FBE-E47C-4810-92C8-FCE36DE6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623-B260-42BF-BAF2-374A707C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CB9-E700-43CC-A97F-9287781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699-DFE2-4FA7-9951-482B44D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89C-8A43-493A-89FA-AE9006B7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3793-9905-4D69-A2A4-D60459E14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34005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71640" y="2205000"/>
            <a:ext cx="28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00200">
            <a:off x="394920" y="981000"/>
            <a:ext cx="2522520" cy="1656000"/>
          </a:xfrm>
          <a:prstGeom prst="rightArrow">
            <a:avLst>
              <a:gd name="adj1" fmla="val 50000"/>
              <a:gd name="adj2" fmla="val 380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IGLIORAMENT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ZZ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17000">
            <a:off x="468000" y="3068280"/>
            <a:ext cx="2519280" cy="1655640"/>
          </a:xfrm>
          <a:prstGeom prst="rightArrow">
            <a:avLst>
              <a:gd name="adj1" fmla="val 50000"/>
              <a:gd name="adj2" fmla="val 38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ZZ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364000" y="1700280"/>
            <a:ext cx="158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4360" y="119700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51640" y="270828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2637000"/>
            <a:ext cx="1368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i di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ù sim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7080" y="4292640"/>
            <a:ext cx="13669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mer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2997360"/>
            <a:ext cx="1511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3429000"/>
            <a:ext cx="1513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4653000"/>
            <a:ext cx="2160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mmigrazion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tta’ multicul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7Z</dcterms:created>
  <dc:creator>studente</dc:creator>
  <dc:description/>
  <dc:language>en-US</dc:language>
  <cp:lastModifiedBy>studente</cp:lastModifiedBy>
  <dcterms:modified xsi:type="dcterms:W3CDTF">2017-01-09T10:00:41Z</dcterms:modified>
  <cp:revision>15</cp:revision>
  <dc:subject/>
  <dc:title>Diapositiva 1</dc:title>
</cp:coreProperties>
</file>